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C27D-9A95-47B5-A5ED-5D6341E7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32B-513D-4916-9E34-207812A6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6593-B9B2-4023-942C-51DF27E4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0E2-4E43-4521-A134-ED408B28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25A-57E6-4AC9-AF0D-FC50F8BC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56D-6C4A-4795-AEEE-FEE40222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3E7-E00E-4188-AB91-F44E0B24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D4B-A70F-445C-A4A8-94AD2573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C4C-A95D-4539-8E23-53A96EE5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FBE9-4569-47DF-94BB-424BCDCD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40F-FD4E-4CBB-88FC-2B657278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003-DA0A-47AF-989B-ABB733C1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3D41-A98D-4CA3-94FB-0D919CEF0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03440" y="0"/>
            <a:ext cx="7920000" cy="29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Unit 1 </a:t>
            </a:r>
            <a:endParaRPr b="1" lang="en-US" sz="4800" spc="1" strike="noStrike">
              <a:ln w="9360">
                <a:solidFill>
                  <a:srgbClr val="0099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Where did you go on vacation?</a:t>
            </a:r>
            <a:endParaRPr b="1" lang="en-US" sz="4800" spc="1" strike="noStrike">
              <a:ln w="9360">
                <a:solidFill>
                  <a:srgbClr val="0099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5003640" y="2349360"/>
            <a:ext cx="3978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5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Section A 1 </a:t>
            </a:r>
            <a:endParaRPr b="1" lang="en-US" sz="4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a-2d</a:t>
            </a:r>
            <a:endParaRPr b="1" lang="en-US" sz="4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5737680" y="5013360"/>
            <a:ext cx="2977200" cy="1556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 We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1&amp; Class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2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1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logo1991[1]"/>
          <p:cNvPicPr/>
          <p:nvPr/>
        </p:nvPicPr>
        <p:blipFill>
          <a:blip r:embed="rId2"/>
          <a:stretch/>
        </p:blipFill>
        <p:spPr>
          <a:xfrm>
            <a:off x="3780000" y="2205000"/>
            <a:ext cx="2077920" cy="2430360"/>
          </a:xfrm>
          <a:prstGeom prst="rect">
            <a:avLst/>
          </a:prstGeom>
          <a:ln w="0">
            <a:noFill/>
          </a:ln>
        </p:spPr>
      </p:pic>
      <p:sp>
        <p:nvSpPr>
          <p:cNvPr id="94" name="圆角矩形标注 5"/>
          <p:cNvSpPr/>
          <p:nvPr/>
        </p:nvSpPr>
        <p:spPr>
          <a:xfrm>
            <a:off x="395280" y="549360"/>
            <a:ext cx="4105440" cy="1800000"/>
          </a:xfrm>
          <a:prstGeom prst="wedgeRoundRectCallout">
            <a:avLst>
              <a:gd name="adj1" fmla="val 35810"/>
              <a:gd name="adj2" fmla="val 65078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e, where did you go on vac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圆角矩形标注 6"/>
          <p:cNvSpPr/>
          <p:nvPr/>
        </p:nvSpPr>
        <p:spPr>
          <a:xfrm>
            <a:off x="5076720" y="693720"/>
            <a:ext cx="2952720" cy="1081080"/>
          </a:xfrm>
          <a:prstGeom prst="wedgeRoundRectCallout">
            <a:avLst>
              <a:gd name="adj1" fmla="val -24166"/>
              <a:gd name="adj2" fmla="val 94611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 ..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圆角矩形标注 7"/>
          <p:cNvSpPr/>
          <p:nvPr/>
        </p:nvSpPr>
        <p:spPr>
          <a:xfrm>
            <a:off x="395280" y="4581360"/>
            <a:ext cx="4464000" cy="1511640"/>
          </a:xfrm>
          <a:prstGeom prst="wedgeRoundRectCallout">
            <a:avLst>
              <a:gd name="adj1" fmla="val -2597"/>
              <a:gd name="adj2" fmla="val -98842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, really? Did you go with anyon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圆角矩形标注 8"/>
          <p:cNvSpPr/>
          <p:nvPr/>
        </p:nvSpPr>
        <p:spPr>
          <a:xfrm>
            <a:off x="5616720" y="4510080"/>
            <a:ext cx="2771640" cy="1081080"/>
          </a:xfrm>
          <a:prstGeom prst="wedgeRoundRectCallout">
            <a:avLst>
              <a:gd name="adj1" fmla="val -35166"/>
              <a:gd name="adj2" fmla="val -77458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es, I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79280" y="333360"/>
            <a:ext cx="222912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Role-pl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556000" y="476280"/>
            <a:ext cx="60483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ole-play the convers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50920" y="1341360"/>
            <a:ext cx="8604000" cy="57704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Rick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Hi, Helen. Long time no s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elen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Hi, Rick. Yes, I was on vacation la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n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Rick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h, did you go anywhere interest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elen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Yes, I went to Guizhou with m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mi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Rick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Wow! Did you see Huangguosh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terfa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250920" y="1268280"/>
            <a:ext cx="86040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elen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Yes, I did. It was wonderful! W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ok quite a few photos there. Wh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bout you? Did you do anyth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pecial last mon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Rick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ot really. I just stayed at ho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st of the time to read and relax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1547640" y="404640"/>
            <a:ext cx="547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Language points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325440" y="1306440"/>
            <a:ext cx="8567640" cy="470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Did you buy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nyth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peci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英语中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ything, something, nothing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erythi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用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指代事物的复合不定代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与之相对应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复合不定代词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yone, someone, no one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eryone (anybody, somebody, nobody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erybody)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用于指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形容词连用时，形容词必须置于复合不定词之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语法上称作“后置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2"/>
          <p:cNvSpPr/>
          <p:nvPr/>
        </p:nvSpPr>
        <p:spPr>
          <a:xfrm>
            <a:off x="539640" y="1197000"/>
            <a:ext cx="7777440" cy="404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I can see ____________ in your grou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08200" indent="-808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在你团队里看到一个新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08200" indent="-808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re’s __________________ in the news to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08200" indent="-808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今天没什么有趣的新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205080" y="1239840"/>
            <a:ext cx="27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omeone n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998800" y="3241800"/>
            <a:ext cx="38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nothing inter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3"/>
          <p:cNvSpPr/>
          <p:nvPr/>
        </p:nvSpPr>
        <p:spPr>
          <a:xfrm>
            <a:off x="360360" y="1197000"/>
            <a:ext cx="8244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Did you go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nywhe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nterest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ywhe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在任何地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常用于一般疑问句或否定句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代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whe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I can’t find my keys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nywhe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到处也找不到我的钥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50920" y="503280"/>
            <a:ext cx="867564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e took quit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 fe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hotos t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few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些，若干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=some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”，后跟可数名词复数形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quite a few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相当多；不少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=many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”后跟可数名词复数形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 are playing volleyb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几个女孩正在打排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re are ______________ in the fores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那片森林里有很多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478160" y="386712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 few gir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844720" y="516420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quite a few bi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324000" y="1125360"/>
            <a:ext cx="853272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I just stayed at hom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o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f the time to read and relax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大多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，后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可数名词或不可数名词均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o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tudents go to school on foo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多数学生步行去上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433440" y="1604880"/>
            <a:ext cx="84596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 +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名词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泛指多数，无范围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 + of + the (this/that/those/these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词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指某一范围内的多数。</a:t>
            </a:r>
            <a:r>
              <a:rPr b="1" lang="zh-CN" sz="3600" spc="-1" strike="noStrike">
                <a:solidFill>
                  <a:srgbClr val="00b05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__________________ go to school b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些学生们中的多数骑自行车去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辨析"/>
          <p:cNvPicPr/>
          <p:nvPr/>
        </p:nvPicPr>
        <p:blipFill>
          <a:blip r:embed="rId2"/>
          <a:stretch/>
        </p:blipFill>
        <p:spPr>
          <a:xfrm>
            <a:off x="611280" y="40464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1548360" y="3665520"/>
            <a:ext cx="41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ost of the 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2771640" y="404640"/>
            <a:ext cx="3168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1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Exercise</a:t>
            </a:r>
            <a:endParaRPr b="1" lang="en-US" sz="4000" spc="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79280" y="1644480"/>
            <a:ext cx="71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根据汉语提示完成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79280" y="2212920"/>
            <a:ext cx="864072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Did he go out with ___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任何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hey didn’t buy ________ __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特殊的东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the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terda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Tell us __________ ______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趣的事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about your vacation, Jenn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4390920" y="2335320"/>
            <a:ext cx="18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y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2230560" y="4494240"/>
            <a:ext cx="46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omething  inter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3886200" y="3060720"/>
            <a:ext cx="407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ything  spe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179280" y="189000"/>
            <a:ext cx="280836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Presentation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3132000" y="115920"/>
            <a:ext cx="5689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at did you do in your summer vac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9"/>
          <p:cNvSpPr/>
          <p:nvPr/>
        </p:nvSpPr>
        <p:spPr>
          <a:xfrm>
            <a:off x="250920" y="27813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 went to Beijing for vac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3743280" y="6021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 went to the mounta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22"/>
          <p:cNvSpPr/>
          <p:nvPr/>
        </p:nvSpPr>
        <p:spPr>
          <a:xfrm>
            <a:off x="3994200" y="321300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 went to summer camp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8" descr="http://t1.baidu.com/it/u=2461453890,1259237328&amp;fm=23&amp;gp=0.jpg"/>
          <p:cNvPicPr/>
          <p:nvPr/>
        </p:nvPicPr>
        <p:blipFill>
          <a:blip r:embed="rId2"/>
          <a:stretch/>
        </p:blipFill>
        <p:spPr>
          <a:xfrm>
            <a:off x="4500720" y="3789360"/>
            <a:ext cx="3549600" cy="2352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logo1991[1]"/>
          <p:cNvPicPr/>
          <p:nvPr/>
        </p:nvPicPr>
        <p:blipFill>
          <a:blip r:embed="rId3"/>
          <a:stretch/>
        </p:blipFill>
        <p:spPr>
          <a:xfrm>
            <a:off x="868320" y="4024440"/>
            <a:ext cx="2200320" cy="257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E:\图片库\地点房子\天坛图.jpg"/>
          <p:cNvPicPr/>
          <p:nvPr/>
        </p:nvPicPr>
        <p:blipFill>
          <a:blip r:embed="rId4"/>
          <a:stretch/>
        </p:blipFill>
        <p:spPr>
          <a:xfrm>
            <a:off x="611280" y="1197000"/>
            <a:ext cx="2870280" cy="1328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"/>
          <p:cNvPicPr/>
          <p:nvPr/>
        </p:nvPicPr>
        <p:blipFill>
          <a:blip r:embed="rId5"/>
          <a:stretch/>
        </p:blipFill>
        <p:spPr>
          <a:xfrm>
            <a:off x="4788000" y="1268280"/>
            <a:ext cx="3168720" cy="2121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144360" y="1628640"/>
            <a:ext cx="896472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They caught ______ ___ 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当多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insects in the fores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_____ __ 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多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students can get to school earl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3349800" y="1773360"/>
            <a:ext cx="35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quite    a    fe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755640" y="32130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 of 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9"/>
          <p:cNvSpPr/>
          <p:nvPr/>
        </p:nvSpPr>
        <p:spPr>
          <a:xfrm>
            <a:off x="324000" y="2637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 stayed at hom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3959280" y="6093000"/>
            <a:ext cx="47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 visited the museu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4211640" y="270828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 went to the b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0" descr="logo1991[1]"/>
          <p:cNvPicPr/>
          <p:nvPr/>
        </p:nvPicPr>
        <p:blipFill>
          <a:blip r:embed="rId2"/>
          <a:stretch/>
        </p:blipFill>
        <p:spPr>
          <a:xfrm>
            <a:off x="868320" y="3716280"/>
            <a:ext cx="2200320" cy="257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082227_414"/>
          <p:cNvPicPr/>
          <p:nvPr/>
        </p:nvPicPr>
        <p:blipFill>
          <a:blip r:embed="rId3"/>
          <a:stretch/>
        </p:blipFill>
        <p:spPr>
          <a:xfrm>
            <a:off x="395280" y="260280"/>
            <a:ext cx="3241800" cy="2317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90fba69cb3aa0fbc0cf51e"/>
          <p:cNvPicPr/>
          <p:nvPr/>
        </p:nvPicPr>
        <p:blipFill>
          <a:blip r:embed="rId4"/>
          <a:stretch/>
        </p:blipFill>
        <p:spPr>
          <a:xfrm>
            <a:off x="4356000" y="360360"/>
            <a:ext cx="3816360" cy="242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"/>
          <p:cNvPicPr/>
          <p:nvPr/>
        </p:nvPicPr>
        <p:blipFill>
          <a:blip r:embed="rId5"/>
          <a:stretch/>
        </p:blipFill>
        <p:spPr>
          <a:xfrm>
            <a:off x="4305240" y="3351240"/>
            <a:ext cx="3867120" cy="2886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4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" descr="logo1991[1]"/>
          <p:cNvPicPr/>
          <p:nvPr/>
        </p:nvPicPr>
        <p:blipFill>
          <a:blip r:embed="rId2"/>
          <a:stretch/>
        </p:blipFill>
        <p:spPr>
          <a:xfrm>
            <a:off x="2700360" y="2852640"/>
            <a:ext cx="2940120" cy="3149640"/>
          </a:xfrm>
          <a:prstGeom prst="rect">
            <a:avLst/>
          </a:prstGeom>
          <a:ln w="0">
            <a:noFill/>
          </a:ln>
        </p:spPr>
      </p:pic>
      <p:sp>
        <p:nvSpPr>
          <p:cNvPr id="61" name="WordArt 4"/>
          <p:cNvSpPr txBox="1"/>
          <p:nvPr/>
        </p:nvSpPr>
        <p:spPr>
          <a:xfrm>
            <a:off x="324000" y="404640"/>
            <a:ext cx="26654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Pairwork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068720" y="18900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ake conversations about the people in the pic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圆角矩形标注 5"/>
          <p:cNvSpPr/>
          <p:nvPr/>
        </p:nvSpPr>
        <p:spPr>
          <a:xfrm>
            <a:off x="289080" y="1843200"/>
            <a:ext cx="3348000" cy="1079280"/>
          </a:xfrm>
          <a:prstGeom prst="wedgeRoundRectCallout">
            <a:avLst>
              <a:gd name="adj1" fmla="val 30273"/>
              <a:gd name="adj2" fmla="val 57648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ere did Tina go on vac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圆角矩形标注 6"/>
          <p:cNvSpPr/>
          <p:nvPr/>
        </p:nvSpPr>
        <p:spPr>
          <a:xfrm>
            <a:off x="5508720" y="2060640"/>
            <a:ext cx="3265560" cy="1081080"/>
          </a:xfrm>
          <a:prstGeom prst="wedgeRoundRectCallout">
            <a:avLst>
              <a:gd name="adj1" fmla="val -66092"/>
              <a:gd name="adj2" fmla="val 39722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he went to the mount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圆角矩形标注 7"/>
          <p:cNvSpPr/>
          <p:nvPr/>
        </p:nvSpPr>
        <p:spPr>
          <a:xfrm>
            <a:off x="324000" y="5659560"/>
            <a:ext cx="2952720" cy="936360"/>
          </a:xfrm>
          <a:prstGeom prst="wedgeRoundRectCallout">
            <a:avLst>
              <a:gd name="adj1" fmla="val 36398"/>
              <a:gd name="adj2" fmla="val -147796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ere did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o on vac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圆角矩形标注 8"/>
          <p:cNvSpPr/>
          <p:nvPr/>
        </p:nvSpPr>
        <p:spPr>
          <a:xfrm>
            <a:off x="5051520" y="5659560"/>
            <a:ext cx="3265560" cy="938160"/>
          </a:xfrm>
          <a:prstGeom prst="wedgeRoundRectCallout">
            <a:avLst>
              <a:gd name="adj1" fmla="val -38333"/>
              <a:gd name="adj2" fmla="val -96870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he/He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2"/>
          <p:cNvSpPr/>
          <p:nvPr/>
        </p:nvSpPr>
        <p:spPr>
          <a:xfrm>
            <a:off x="3097080" y="403200"/>
            <a:ext cx="827280" cy="84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logo1991[1]"/>
          <p:cNvPicPr/>
          <p:nvPr/>
        </p:nvPicPr>
        <p:blipFill>
          <a:blip r:embed="rId2"/>
          <a:stretch/>
        </p:blipFill>
        <p:spPr>
          <a:xfrm>
            <a:off x="3132000" y="3284640"/>
            <a:ext cx="2586240" cy="3024000"/>
          </a:xfrm>
          <a:prstGeom prst="rect">
            <a:avLst/>
          </a:prstGeom>
          <a:ln w="0">
            <a:noFill/>
          </a:ln>
        </p:spPr>
      </p:pic>
      <p:sp>
        <p:nvSpPr>
          <p:cNvPr id="69" name="圆角矩形标注 12"/>
          <p:cNvSpPr/>
          <p:nvPr/>
        </p:nvSpPr>
        <p:spPr>
          <a:xfrm>
            <a:off x="468360" y="1844640"/>
            <a:ext cx="3456000" cy="1224000"/>
          </a:xfrm>
          <a:prstGeom prst="wedgeRoundRectCallout">
            <a:avLst>
              <a:gd name="adj1" fmla="val 34199"/>
              <a:gd name="adj2" fmla="val 80740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id you go on vac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圆角矩形标注 13"/>
          <p:cNvSpPr/>
          <p:nvPr/>
        </p:nvSpPr>
        <p:spPr>
          <a:xfrm>
            <a:off x="5580000" y="1916280"/>
            <a:ext cx="2879640" cy="1223640"/>
          </a:xfrm>
          <a:prstGeom prst="wedgeRoundRectCallout">
            <a:avLst>
              <a:gd name="adj1" fmla="val -48013"/>
              <a:gd name="adj2" fmla="val 77236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 went to the mounta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468360" y="333360"/>
            <a:ext cx="2951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Practice</a:t>
            </a:r>
            <a:endParaRPr b="1" lang="en-US" sz="4000" spc="1" strike="noStrike">
              <a:ln w="19080">
                <a:solidFill>
                  <a:srgbClr val="3399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24360" y="189000"/>
            <a:ext cx="38163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ake your 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nvers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4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logo1991[1]"/>
          <p:cNvPicPr/>
          <p:nvPr/>
        </p:nvPicPr>
        <p:blipFill>
          <a:blip r:embed="rId2"/>
          <a:stretch/>
        </p:blipFill>
        <p:spPr>
          <a:xfrm>
            <a:off x="3203640" y="2852640"/>
            <a:ext cx="2940120" cy="3438720"/>
          </a:xfrm>
          <a:prstGeom prst="rect">
            <a:avLst/>
          </a:prstGeom>
          <a:ln w="0">
            <a:noFill/>
          </a:ln>
        </p:spPr>
      </p:pic>
      <p:sp>
        <p:nvSpPr>
          <p:cNvPr id="74" name="圆角矩形标注 8"/>
          <p:cNvSpPr/>
          <p:nvPr/>
        </p:nvSpPr>
        <p:spPr>
          <a:xfrm>
            <a:off x="5003640" y="1125360"/>
            <a:ext cx="3457800" cy="1441800"/>
          </a:xfrm>
          <a:prstGeom prst="wedgeRoundRectCallout">
            <a:avLst>
              <a:gd name="adj1" fmla="val -35537"/>
              <a:gd name="adj2" fmla="val 80615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id you g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圆角矩形标注 9"/>
          <p:cNvSpPr/>
          <p:nvPr/>
        </p:nvSpPr>
        <p:spPr>
          <a:xfrm>
            <a:off x="611280" y="1197000"/>
            <a:ext cx="3097080" cy="1297080"/>
          </a:xfrm>
          <a:prstGeom prst="wedgeRoundRectCallout">
            <a:avLst>
              <a:gd name="adj1" fmla="val 44208"/>
              <a:gd name="adj2" fmla="val 88800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 went to the Great W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4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5"/>
          <p:cNvSpPr txBox="1"/>
          <p:nvPr/>
        </p:nvSpPr>
        <p:spPr>
          <a:xfrm>
            <a:off x="250920" y="765000"/>
            <a:ext cx="2520720" cy="590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Arial"/>
              </a:rPr>
              <a:t>Listening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Arial"/>
              <a:ea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844720" y="260280"/>
            <a:ext cx="5472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isten. Where did the people go on vacation? Complete the char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2"/>
          <p:cNvSpPr/>
          <p:nvPr/>
        </p:nvSpPr>
        <p:spPr>
          <a:xfrm>
            <a:off x="1116000" y="1123920"/>
            <a:ext cx="863640" cy="84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0920" y="2563920"/>
          <a:ext cx="8640720" cy="3240000"/>
        </p:xfrm>
        <a:graphic>
          <a:graphicData uri="http://schemas.openxmlformats.org/drawingml/2006/table">
            <a:tbl>
              <a:tblPr/>
              <a:tblGrid>
                <a:gridCol w="3024000"/>
                <a:gridCol w="561672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3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Gra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3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Kev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3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Juli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80" name="Picture 26" descr="喇叭"/>
          <p:cNvPicPr/>
          <p:nvPr/>
        </p:nvPicPr>
        <p:blipFill>
          <a:blip r:embed="rId2"/>
          <a:stretch/>
        </p:blipFill>
        <p:spPr>
          <a:xfrm>
            <a:off x="7740720" y="1701720"/>
            <a:ext cx="790560" cy="790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7"/>
          <p:cNvSpPr/>
          <p:nvPr/>
        </p:nvSpPr>
        <p:spPr>
          <a:xfrm>
            <a:off x="3995640" y="3495600"/>
            <a:ext cx="37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ew York 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3995640" y="42879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be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3995640" y="50799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ayed at h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3203640" y="189000"/>
            <a:ext cx="316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Pairwork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547640" y="1162080"/>
            <a:ext cx="70581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ole-play conversations between Grace, Kevin and Jul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2"/>
          <p:cNvSpPr/>
          <p:nvPr/>
        </p:nvSpPr>
        <p:spPr>
          <a:xfrm>
            <a:off x="468360" y="1143000"/>
            <a:ext cx="825480" cy="84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539640" y="2565360"/>
            <a:ext cx="7993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Grace, where did you go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c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I went to New York Cit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Oh, really? Did you go with anyon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Yes, I went with my m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logo1991[1]"/>
          <p:cNvPicPr/>
          <p:nvPr/>
        </p:nvPicPr>
        <p:blipFill>
          <a:blip r:embed="rId2"/>
          <a:stretch/>
        </p:blipFill>
        <p:spPr>
          <a:xfrm>
            <a:off x="3780000" y="2062080"/>
            <a:ext cx="2077920" cy="2430720"/>
          </a:xfrm>
          <a:prstGeom prst="rect">
            <a:avLst/>
          </a:prstGeom>
          <a:ln w="0">
            <a:noFill/>
          </a:ln>
        </p:spPr>
      </p:pic>
      <p:sp>
        <p:nvSpPr>
          <p:cNvPr id="89" name="圆角矩形标注 4"/>
          <p:cNvSpPr/>
          <p:nvPr/>
        </p:nvSpPr>
        <p:spPr>
          <a:xfrm>
            <a:off x="395280" y="404640"/>
            <a:ext cx="3960720" cy="1657440"/>
          </a:xfrm>
          <a:prstGeom prst="wedgeRoundRectCallout">
            <a:avLst>
              <a:gd name="adj1" fmla="val 28759"/>
              <a:gd name="adj2" fmla="val 77393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vin, where did you go on vac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圆角矩形标注 5"/>
          <p:cNvSpPr/>
          <p:nvPr/>
        </p:nvSpPr>
        <p:spPr>
          <a:xfrm>
            <a:off x="5040360" y="620640"/>
            <a:ext cx="2952720" cy="1081080"/>
          </a:xfrm>
          <a:prstGeom prst="wedgeRoundRectCallout">
            <a:avLst>
              <a:gd name="adj1" fmla="val -24166"/>
              <a:gd name="adj2" fmla="val 94611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 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圆角矩形标注 6"/>
          <p:cNvSpPr/>
          <p:nvPr/>
        </p:nvSpPr>
        <p:spPr>
          <a:xfrm>
            <a:off x="324000" y="4294080"/>
            <a:ext cx="4824360" cy="1440000"/>
          </a:xfrm>
          <a:prstGeom prst="wedgeRoundRectCallout">
            <a:avLst>
              <a:gd name="adj1" fmla="val 23740"/>
              <a:gd name="adj2" fmla="val -118578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, really? Did you go with anyon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圆角矩形标注 7"/>
          <p:cNvSpPr/>
          <p:nvPr/>
        </p:nvSpPr>
        <p:spPr>
          <a:xfrm>
            <a:off x="5435640" y="4294080"/>
            <a:ext cx="3527280" cy="1081080"/>
          </a:xfrm>
          <a:prstGeom prst="wedgeRoundRectCallout">
            <a:avLst>
              <a:gd name="adj1" fmla="val -38333"/>
              <a:gd name="adj2" fmla="val -77467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es, I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02:35:29Z</dcterms:created>
  <dc:creator/>
  <dc:description/>
  <dc:language>en-US</dc:language>
  <cp:lastModifiedBy>SDWM</cp:lastModifiedBy>
  <dcterms:modified xsi:type="dcterms:W3CDTF">2018-07-28T01:10:00Z</dcterms:modified>
  <cp:revision>140</cp:revision>
  <dc:subject/>
  <dc:title>幻灯片 1</dc:title>
</cp:coreProperties>
</file>